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8998-09EA-47BD-A35F-EC65AA5C8AA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6C1B-278F-4F11-9641-FAA50091764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7293-F39B-4D37-88C7-77329EB79CD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B127-A601-4A00-9F9A-0F2AF4C9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0FBC-3A9D-4D9F-8824-C034B11D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0971-CE0E-4F4F-81F2-21B4A1BF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D534-8D62-4B10-B522-632792CC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4696-55FB-4090-85DD-D143DC09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ADD1-D713-4692-89AE-DD3DFB04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7176-F912-4AD7-9A2F-26978120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BB08-AED5-4F30-97B1-BDD71B53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094D-7C2B-4A5A-8D2E-3237F71A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0EF3-5FE6-49CA-B0E7-2D4514A8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E85A-A0D1-4BB5-86D2-54311508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BE41-7760-4E00-BE86-10A8434E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9E6C-6607-48B1-8142-3C5910241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have i got news"/>
          <p:cNvPicPr/>
          <p:nvPr/>
        </p:nvPicPr>
        <p:blipFill>
          <a:blip r:embed="rId2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news.bbc.co.uk/1/hi/world/7875367.st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928800" y="1571760"/>
            <a:ext cx="74293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Geography in the News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31212777@N05/3139226381"/>
          <p:cNvPicPr/>
          <p:nvPr/>
        </p:nvPicPr>
        <p:blipFill>
          <a:blip r:embed="rId1"/>
          <a:stretch/>
        </p:blipFill>
        <p:spPr>
          <a:xfrm>
            <a:off x="0" y="0"/>
            <a:ext cx="9225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4579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have you learnt so far in Year 7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recognise how Geography is represented in the n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describe some simple Geographical news s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synthesise information from newspaper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13833256@N00/1423767573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atch the cl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news.bbc.co.uk/1/hi/world/7875367.s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will show you a one-minute summary of the n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want you to think which parts of the summary are related to Ge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32489087@N00/4343878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329160" y="142560"/>
            <a:ext cx="2671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757600" y="3714480"/>
            <a:ext cx="6386400" cy="314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 are going to work in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 will try to read as many different news stories as you can in the time g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 need to fill in the required information onto your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31212777@N05/3139226381"/>
          <p:cNvPicPr/>
          <p:nvPr/>
        </p:nvPicPr>
        <p:blipFill>
          <a:blip r:embed="rId1"/>
          <a:stretch/>
        </p:blipFill>
        <p:spPr>
          <a:xfrm>
            <a:off x="0" y="0"/>
            <a:ext cx="9225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4579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have you learnt so far in Year 7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recognise how Geography is represented in the n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describe some simple Geographical news s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synthesise information from newspaper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www.setdesign.co.uk/storage/mo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14240" y="564336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f this is the answer what is the ques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www.setdesign.co.uk/storage/mo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0720"/>
            <a:ext cx="7772400" cy="316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this is the answer what is the ques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rs. Add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ww.setdesign.co.uk/storage/mo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f this is the answer what is the ques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0720"/>
            <a:ext cx="7772400" cy="316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rand Cany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www.setdesign.co.uk/storage/mo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f this is the answer what is the ques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0720"/>
            <a:ext cx="7772400" cy="316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ink teddy b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www.setdesign.co.uk/storage/mo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f this is the answer what is the ques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0720"/>
            <a:ext cx="7772400" cy="316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urric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www.setdesign.co.uk/storage/mo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f this is the answer what is the ques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0720"/>
            <a:ext cx="7772400" cy="316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643040" y="2643120"/>
            <a:ext cx="600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ve I got news for you caption roun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www.setdesign.co.uk/storage/mo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f this is the answer what is the ques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0720"/>
            <a:ext cx="7772400" cy="316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1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www.setdesign.co.uk/storage/mo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f this is the answer what is the ques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0720"/>
            <a:ext cx="7772400" cy="316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www.setdesign.co.uk/storage/mo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f this is the answer what is the ques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0720"/>
            <a:ext cx="7772400" cy="316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n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www.setdesign.co.uk/storage/mo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f this is the answer what is the ques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0720"/>
            <a:ext cx="7772400" cy="316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 b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928880" y="1785960"/>
            <a:ext cx="542916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Strong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batters the French quar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4143240" y="185724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2071800" y="1928880"/>
            <a:ext cx="585792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President declares ‘Bush on </a:t>
            </a:r>
            <a:r>
              <a:rPr b="0" lang="en-GB" sz="5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GB" sz="5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GB" sz="5400" spc="-1" strike="noStrike" u="sng">
                <a:solidFill>
                  <a:srgbClr val="000000"/>
                </a:solidFill>
                <a:uFillTx/>
                <a:latin typeface="Comic Sans MS"/>
              </a:rPr>
              <a:t>‘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2214720" y="371484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643120" y="2214720"/>
            <a:ext cx="49291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P-Diddy goes all </a:t>
            </a:r>
            <a:r>
              <a:rPr b="0" lang="en-GB" sz="5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GB" sz="5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3643200" y="321480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1928880" y="1214280"/>
            <a:ext cx="507204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GB" sz="5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auses 1.5 million sheep to di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1928880" y="135720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rou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071800" y="1857240"/>
            <a:ext cx="521496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rossing for South African childr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2143080" y="1928880"/>
            <a:ext cx="18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rocod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2500200" y="1357200"/>
            <a:ext cx="442908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plan to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25 miles of Norfol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2571840" y="1928880"/>
            <a:ext cx="16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2286000" y="1928880"/>
            <a:ext cx="521496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festation in Banglade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500200" y="1928880"/>
            <a:ext cx="150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5:46:07Z</dcterms:created>
  <dc:creator>Chris</dc:creator>
  <dc:description/>
  <dc:language>en-US</dc:language>
  <cp:lastModifiedBy>Chris</cp:lastModifiedBy>
  <dcterms:modified xsi:type="dcterms:W3CDTF">2009-08-31T16:05:29Z</dcterms:modified>
  <cp:revision>1</cp:revision>
  <dc:subject/>
  <dc:title>Slide 1</dc:title>
</cp:coreProperties>
</file>